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395FE-72D6-4F64-91A3-DE31D79E3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E5A95-E447-4F8C-83BC-C5EE7291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23695-2BD8-47CF-B59D-87602437B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E4263-F255-4E24-BC1C-40FC81428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AB766-8231-47CC-850E-DF325C38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A0616-D2B9-423B-A632-985F0832B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ACE6C-1B51-44D4-A5B7-9AB3B9C63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095D3-59CF-450B-B3CB-28A12956B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BDFE9-059B-4330-8E3A-E8B502B7F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C889-520B-43B3-B29C-0A19A6AF4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720E8-BD87-40CE-9A7B-803B8CCE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2D5DB-8C2E-43C6-A5BA-D2A341DA0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E99E-89D7-4148-B069-35C7E4BFE20B}" type="datetime">
              <a:rPr b="0" lang="tr-T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7CC6-5F1C-4331-A2AC-E38B1D849D4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142640"/>
            <a:ext cx="7786800" cy="471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DİLİNİN YAYILMA ALANLARI VE BUGÜNKÜ DURUMU</a:t>
            </a:r>
            <a:br>
              <a:rPr sz="3600"/>
            </a:br>
            <a:endParaRPr b="0" lang="en-US" sz="36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6F87-6BD2-442F-8D12-566F07CDC6C7}"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etin kutusu"/>
          <p:cNvSpPr/>
          <p:nvPr/>
        </p:nvSpPr>
        <p:spPr>
          <a:xfrm>
            <a:off x="1116000" y="142884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Doğu Bölgesi</a:t>
            </a:r>
            <a:endParaRPr b="0" lang="en-US" sz="2800" spc="-1" strike="noStrike">
              <a:solidFill>
                <a:srgbClr val="000000"/>
              </a:solidFill>
              <a:latin typeface="Arial"/>
            </a:endParaRPr>
          </a:p>
        </p:txBody>
      </p:sp>
      <p:sp>
        <p:nvSpPr>
          <p:cNvPr id="72" name="6 Metin kutusu"/>
          <p:cNvSpPr/>
          <p:nvPr/>
        </p:nvSpPr>
        <p:spPr>
          <a:xfrm>
            <a:off x="900000" y="2643120"/>
            <a:ext cx="33116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Batı Türkistan Türkleri</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kalp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zbekler</a:t>
            </a:r>
            <a:endParaRPr b="0" lang="en-US" sz="24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rgız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menler</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7 Metin kutusu"/>
          <p:cNvSpPr/>
          <p:nvPr/>
        </p:nvSpPr>
        <p:spPr>
          <a:xfrm>
            <a:off x="4294080" y="2714760"/>
            <a:ext cx="342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Doğu Türkist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a:t>
            </a:r>
            <a:endParaRPr b="0" lang="en-US" sz="2400" spc="-1" strike="noStrike">
              <a:solidFill>
                <a:srgbClr val="000000"/>
              </a:solidFill>
              <a:latin typeface="Arial"/>
            </a:endParaRPr>
          </a:p>
        </p:txBody>
      </p:sp>
      <p:sp>
        <p:nvSpPr>
          <p:cNvPr id="74" name="9 Düz Bağlayıcı"/>
          <p:cNvSpPr/>
          <p:nvPr/>
        </p:nvSpPr>
        <p:spPr>
          <a:xfrm>
            <a:off x="4143240" y="2786040"/>
            <a:ext cx="0" cy="2303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E6FBF-8934-49DC-BD02-1002890F72D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Metin kutusu"/>
          <p:cNvSpPr/>
          <p:nvPr/>
        </p:nvSpPr>
        <p:spPr>
          <a:xfrm>
            <a:off x="1000080" y="1214280"/>
            <a:ext cx="757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Batı/ Güneybatı Bölgesi (Batı Türkçesi)</a:t>
            </a:r>
            <a:endParaRPr b="0" lang="en-US" sz="2800" spc="-1" strike="noStrike">
              <a:solidFill>
                <a:srgbClr val="000000"/>
              </a:solidFill>
              <a:latin typeface="Arial"/>
            </a:endParaRPr>
          </a:p>
        </p:txBody>
      </p:sp>
      <p:sp>
        <p:nvSpPr>
          <p:cNvPr id="77" name="5 Metin kutusu"/>
          <p:cNvSpPr/>
          <p:nvPr/>
        </p:nvSpPr>
        <p:spPr>
          <a:xfrm>
            <a:off x="1476360" y="2428920"/>
            <a:ext cx="452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iye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brı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lk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agauz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zerbayc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rap Ülkelerinde Yaşayan Türkler</a:t>
            </a:r>
            <a:endParaRPr b="0" lang="en-US" sz="2400" spc="-1" strike="noStrike">
              <a:solidFill>
                <a:srgbClr val="000000"/>
              </a:solidFill>
              <a:latin typeface="Arial"/>
            </a:endParaRPr>
          </a:p>
        </p:txBody>
      </p:sp>
      <p:sp>
        <p:nvSpPr>
          <p:cNvPr id="7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D48F9-1220-4118-9307-72CBAEAE623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etin kutusu"/>
          <p:cNvSpPr/>
          <p:nvPr/>
        </p:nvSpPr>
        <p:spPr>
          <a:xfrm>
            <a:off x="928800" y="928800"/>
            <a:ext cx="705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ürk Lehçe ve Şivelerine Örnekler</a:t>
            </a:r>
            <a:endParaRPr b="0" lang="en-US" sz="2400" spc="-1" strike="noStrike">
              <a:solidFill>
                <a:srgbClr val="000000"/>
              </a:solidFill>
              <a:latin typeface="Arial"/>
            </a:endParaRPr>
          </a:p>
        </p:txBody>
      </p:sp>
      <p:graphicFrame>
        <p:nvGraphicFramePr>
          <p:cNvPr id="80" name=""/>
          <p:cNvGraphicFramePr/>
          <p:nvPr/>
        </p:nvGraphicFramePr>
        <p:xfrm>
          <a:off x="928800" y="1857240"/>
          <a:ext cx="7783560" cy="4759560"/>
        </p:xfrm>
        <a:graphic>
          <a:graphicData uri="http://schemas.openxmlformats.org/drawingml/2006/table">
            <a:tbl>
              <a:tblPr/>
              <a:tblGrid>
                <a:gridCol w="2114280"/>
                <a:gridCol w="5669280"/>
              </a:tblGrid>
              <a:tr h="4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iye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zey Azerbayca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sa tütsü çıh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agau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erden duman tütm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brı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rkük (Ir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nan yerden tütsü çıkar.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ım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gan cerde tuman bol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6A64-3A2B-4D1E-84BD-D88CD7F2CCD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928800" y="2071800"/>
          <a:ext cx="7929360" cy="4376520"/>
        </p:xfrm>
        <a:graphic>
          <a:graphicData uri="http://schemas.openxmlformats.org/drawingml/2006/table">
            <a:tbl>
              <a:tblPr/>
              <a:tblGrid>
                <a:gridCol w="2154240"/>
                <a:gridCol w="5775120"/>
              </a:tblGrid>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şkırt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 tötönhöz bulma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at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lk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da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1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raç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gan cerden tuman bol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z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gı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ar cerde tütün bar, su bar cerde bereke ba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Haka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polbaza ıs taa sıhp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3" name="5 Metin kutusu"/>
          <p:cNvSpPr/>
          <p:nvPr/>
        </p:nvSpPr>
        <p:spPr>
          <a:xfrm>
            <a:off x="857160" y="135720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06BE-8216-42A3-ADA3-35A51AD6878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928800" y="1214280"/>
          <a:ext cx="7819920" cy="4878720"/>
        </p:xfrm>
        <a:graphic>
          <a:graphicData uri="http://schemas.openxmlformats.org/drawingml/2006/table">
            <a:tbl>
              <a:tblPr/>
              <a:tblGrid>
                <a:gridCol w="2124000"/>
                <a:gridCol w="5695920"/>
              </a:tblGrid>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me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sa, tüsse çıkmaz, Ot tütünsiz bol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Özbe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tünsüz od bolmas, yazıksız yiğ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ygu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köymigiçe is çikm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1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t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bogon yerden ış çık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uvaş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Vut kavarsar tetem tuhmas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kut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ota suohha tuman ebeter buruo tahsıb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6" name="5 Metin kutusu"/>
          <p:cNvSpPr/>
          <p:nvPr/>
        </p:nvSpPr>
        <p:spPr>
          <a:xfrm>
            <a:off x="928800" y="57168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7"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A0585-888F-4DEE-8B35-8AD3A2FB8AE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 Metin kutusu"/>
          <p:cNvSpPr/>
          <p:nvPr/>
        </p:nvSpPr>
        <p:spPr>
          <a:xfrm>
            <a:off x="928800" y="1357200"/>
            <a:ext cx="7388280" cy="3020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Bugünkü Durumu</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Adlandırılması</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oğrafyaya Göre: Kırım Türkçesi, Altay Türkçesi, İdil-Ural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oy İsimlerine Göre: Azeri Türkçesi, Kırgız Türkçesi, Özbek Türkçesi, Kazak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şılıklı Anlaşılabilirlik Durumuna Göre</a:t>
            </a:r>
            <a:endParaRPr b="0" lang="en-US" sz="2400" spc="-1" strike="noStrike">
              <a:solidFill>
                <a:srgbClr val="000000"/>
              </a:solidFill>
              <a:latin typeface="Arial"/>
            </a:endParaRPr>
          </a:p>
        </p:txBody>
      </p:sp>
      <p:sp>
        <p:nvSpPr>
          <p:cNvPr id="9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20817-DDE5-41B6-B6DB-D94DA68D297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
          <p:cNvSpPr/>
          <p:nvPr/>
        </p:nvSpPr>
        <p:spPr>
          <a:xfrm>
            <a:off x="1403280" y="2161440"/>
            <a:ext cx="698508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ler tarih boyunca başlıca beş büyük alfabe kullanmışlardır: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ygur</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Latin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  </a:t>
            </a:r>
            <a:endParaRPr b="0" lang="en-US" sz="2800" spc="-1" strike="noStrike">
              <a:solidFill>
                <a:srgbClr val="000000"/>
              </a:solidFill>
              <a:latin typeface="Arial"/>
            </a:endParaRPr>
          </a:p>
        </p:txBody>
      </p:sp>
      <p:sp>
        <p:nvSpPr>
          <p:cNvPr id="9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B4B7-E277-430E-B438-4193C37297F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
          <p:cNvSpPr/>
          <p:nvPr/>
        </p:nvSpPr>
        <p:spPr>
          <a:xfrm>
            <a:off x="1549440" y="1441080"/>
            <a:ext cx="6985080" cy="2653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a:t>
            </a:r>
            <a:endParaRPr b="0" lang="en-US" sz="2800" spc="-1" strike="noStrike">
              <a:solidFill>
                <a:srgbClr val="000000"/>
              </a:solidFill>
              <a:latin typeface="Arial"/>
            </a:endParaRPr>
          </a:p>
        </p:txBody>
      </p:sp>
      <p:sp>
        <p:nvSpPr>
          <p:cNvPr id="9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8E9A-F4D8-490F-98A6-5425CBE8B5F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Metin kutusu"/>
          <p:cNvSpPr/>
          <p:nvPr/>
        </p:nvSpPr>
        <p:spPr>
          <a:xfrm>
            <a:off x="1071720" y="1000080"/>
            <a:ext cx="7643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99" name="Rectangle 1"/>
          <p:cNvSpPr/>
          <p:nvPr/>
        </p:nvSpPr>
        <p:spPr>
          <a:xfrm>
            <a:off x="1000080" y="2510640"/>
            <a:ext cx="7715160" cy="23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Arap Alfabesi: </a:t>
            </a:r>
            <a:r>
              <a:rPr b="0" lang="tr-TR" sz="2500" spc="-1" strike="noStrike">
                <a:solidFill>
                  <a:srgbClr val="000000"/>
                </a:solidFill>
                <a:latin typeface="Times New Roman"/>
                <a:ea typeface="Times New Roman"/>
              </a:rPr>
              <a:t>Doğu Türkistan’daki (Çin) Uygur ve Kazak Türkleri tarafından resmi alfabe olarak kullanılmaktadır. İran’daki Azeri ve Türkmen Türklerinin de alfabeleri Arap menşelidir. Irak Türkleri ile Afganistan’daki Özbek ve Türkmen Türkleri de Arap menşeli Türk alfabeleri kullanmaktadır. </a:t>
            </a:r>
            <a:endParaRPr b="0" lang="en-US" sz="2500" spc="-1" strike="noStrike">
              <a:solidFill>
                <a:srgbClr val="000000"/>
              </a:solidFill>
              <a:latin typeface="Arial"/>
            </a:endParaRPr>
          </a:p>
        </p:txBody>
      </p:sp>
      <p:sp>
        <p:nvSpPr>
          <p:cNvPr id="10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9A48-5A4B-423E-B2DB-0DB14773193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6 Metin kutusu"/>
          <p:cNvSpPr/>
          <p:nvPr/>
        </p:nvSpPr>
        <p:spPr>
          <a:xfrm>
            <a:off x="928800" y="857160"/>
            <a:ext cx="7500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3" name="Rectangle 1"/>
          <p:cNvSpPr/>
          <p:nvPr/>
        </p:nvSpPr>
        <p:spPr>
          <a:xfrm>
            <a:off x="1000080" y="2152800"/>
            <a:ext cx="785808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ff0000"/>
                </a:solidFill>
                <a:latin typeface="Times New Roman"/>
                <a:ea typeface="Times New Roman"/>
              </a:rPr>
              <a:t>2.Latin Alfabesi: </a:t>
            </a:r>
            <a:r>
              <a:rPr b="0" lang="tr-TR" sz="2800" spc="-1" strike="noStrike">
                <a:solidFill>
                  <a:srgbClr val="000000"/>
                </a:solidFill>
                <a:latin typeface="Times New Roman"/>
                <a:ea typeface="Times New Roman"/>
              </a:rPr>
              <a:t>Latin harflerine dayanan Türk alfabesi, 1928’den beri Türkiye Türklerinin alfabesidir. Kıbrıs, Batı Trakya (Yunanistan), Bulgaristan, Yugoslavya, Romanya, Finlandiya Türkleri de bu alfabeyi kullanmaktadır. </a:t>
            </a:r>
            <a:endParaRPr b="0" lang="en-US" sz="2800" spc="-1" strike="noStrike">
              <a:solidFill>
                <a:srgbClr val="000000"/>
              </a:solidFill>
              <a:latin typeface="Arial"/>
            </a:endParaRPr>
          </a:p>
        </p:txBody>
      </p:sp>
      <p:sp>
        <p:nvSpPr>
          <p:cNvPr id="10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95C05-FA0B-41CD-9750-1DA334AF272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8440" y="785880"/>
            <a:ext cx="7786440" cy="52149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 milletin kendine ait bir dili bulunmakla beraber aynı milletin yayıldığı bütün coğrafyalarda tek bir şekilde konuşulup yaz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zı ve söyleyiş farklılıkları her dilde bulunur, bu farklılık dillerin tarihi gelişiminden, ses ve şekil değişikliklerinden kaynaklanmakta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bakımdan her dilin içinde dilden küçük gruplar bulunur. Bu gruplara </a:t>
            </a:r>
            <a:r>
              <a:rPr b="0" lang="tr-TR" sz="2400" spc="-1" strike="noStrike">
                <a:solidFill>
                  <a:srgbClr val="ff0000"/>
                </a:solidFill>
                <a:latin typeface="Times New Roman"/>
                <a:ea typeface="Times New Roman"/>
              </a:rPr>
              <a:t>lehçe, şive ve ağız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mdi bu grupları ayrıntılı şekilde incelemeye geçebiliri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5"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57ED-EDB3-4DB7-851A-DD89D810658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6 Metin kutusu"/>
          <p:cNvSpPr/>
          <p:nvPr/>
        </p:nvSpPr>
        <p:spPr>
          <a:xfrm>
            <a:off x="928800" y="714240"/>
            <a:ext cx="778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7" name="Rectangle 1"/>
          <p:cNvSpPr/>
          <p:nvPr/>
        </p:nvSpPr>
        <p:spPr>
          <a:xfrm>
            <a:off x="928800" y="2297880"/>
            <a:ext cx="8035920" cy="265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3.Kiril Alfabesi: </a:t>
            </a:r>
            <a:r>
              <a:rPr b="0" lang="tr-TR" sz="2400" spc="-1" strike="noStrike">
                <a:solidFill>
                  <a:srgbClr val="000000"/>
                </a:solidFill>
                <a:latin typeface="Times New Roman"/>
                <a:ea typeface="Times New Roman"/>
              </a:rPr>
              <a:t>Sovyetler Birliği’ndeki Türklerden Çuvaşlar 1871’de (bugünkü alfabe 1938’de); Altay Türkleri 1937’de; Kırım, Kazan, Nogay, Karaçay, Balkar (Malkar) ve Kumuk Türkleri 1938’de; Yakut ve Abakan Türkleri 1939’da Azeri, Türkmen, Özbek, Başkurt, Karakalpak ve Kırgız Türkleri 1940’ta; Tuvalar, l941’de; Uygur Türkleri 1947’de Kiril harflerine geçirilmiştir. </a:t>
            </a:r>
            <a:endParaRPr b="0" lang="en-US" sz="2400" spc="-1" strike="noStrike">
              <a:solidFill>
                <a:srgbClr val="000000"/>
              </a:solidFill>
              <a:latin typeface="Arial"/>
            </a:endParaRPr>
          </a:p>
        </p:txBody>
      </p:sp>
      <p:sp>
        <p:nvSpPr>
          <p:cNvPr id="10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EDED7-0727-4FFD-8448-CA5FF885FF4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Metin kutusu"/>
          <p:cNvSpPr/>
          <p:nvPr/>
        </p:nvSpPr>
        <p:spPr>
          <a:xfrm>
            <a:off x="1000080" y="785880"/>
            <a:ext cx="64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Karşılaştığı Engeller</a:t>
            </a:r>
            <a:endParaRPr b="0" lang="en-US" sz="2800" spc="-1" strike="noStrike">
              <a:solidFill>
                <a:srgbClr val="000000"/>
              </a:solidFill>
              <a:latin typeface="Arial"/>
            </a:endParaRPr>
          </a:p>
        </p:txBody>
      </p:sp>
      <p:sp>
        <p:nvSpPr>
          <p:cNvPr id="111" name="Rectangle 1"/>
          <p:cNvSpPr/>
          <p:nvPr/>
        </p:nvSpPr>
        <p:spPr>
          <a:xfrm>
            <a:off x="1000080" y="1878840"/>
            <a:ext cx="7858080" cy="429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Günümüz dünyasında Türk dilini konuşanlar, alfabelerinin farklı olmasından dolayı birbirlerinin yazılarını okuyamaz haldedi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Aynı sesler aynı harflerle gösterilmeli; Türk dilinde bulunmayan harfler Azerbaycan'da ve Türkmenistan'da olduğu gibi atılmalıdı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Bazı Türk lehçe ve şivelerinde bulunan ve fazla yaygınlığı olmayan sesler için özel harflere de lüzum yoktur. Bunlar kendilerine en yakın ve Türk dili içinde yaygın bir sesin harfi ile gösterilmelidir.</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Türk dili için hedef, bütün dünyada Türkçe konuşanlar arasında kullanılacak ortak, tek bir alfabeye ulaşmak olmalıdır.</a:t>
            </a:r>
            <a:endParaRPr b="0" lang="en-US" sz="2300" spc="-1" strike="noStrike">
              <a:solidFill>
                <a:srgbClr val="000000"/>
              </a:solidFill>
              <a:latin typeface="Arial"/>
            </a:endParaRPr>
          </a:p>
        </p:txBody>
      </p:sp>
      <p:sp>
        <p:nvSpPr>
          <p:cNvPr id="11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A5EF-8793-48FA-B054-E65A0BD31A5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6 Metin kutusu"/>
          <p:cNvSpPr/>
          <p:nvPr/>
        </p:nvSpPr>
        <p:spPr>
          <a:xfrm>
            <a:off x="971640" y="1714680"/>
            <a:ext cx="7539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rşılıklı Anlaşabilirliği Etkileyen Sebep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Türk Dilinin İç ve Dış Yapısındaki Değişiklik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Yeni Türetilen Keli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 Ödünçle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Coğrafî ve Siyasî Sebepler</a:t>
            </a:r>
            <a:endParaRPr b="0" lang="en-US" sz="2800" spc="-1" strike="noStrike">
              <a:solidFill>
                <a:srgbClr val="000000"/>
              </a:solidFill>
              <a:latin typeface="Arial"/>
            </a:endParaRPr>
          </a:p>
        </p:txBody>
      </p:sp>
      <p:sp>
        <p:nvSpPr>
          <p:cNvPr id="11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2E77-AAF4-4D95-94F4-8B4088EF8DD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Metin kutusu"/>
          <p:cNvSpPr/>
          <p:nvPr/>
        </p:nvSpPr>
        <p:spPr>
          <a:xfrm>
            <a:off x="900000" y="928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Bugünkü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onuç:</a:t>
            </a:r>
            <a:endParaRPr b="0" lang="en-US" sz="2800" spc="-1" strike="noStrike">
              <a:solidFill>
                <a:srgbClr val="000000"/>
              </a:solidFill>
              <a:latin typeface="Arial"/>
            </a:endParaRPr>
          </a:p>
        </p:txBody>
      </p:sp>
      <p:sp>
        <p:nvSpPr>
          <p:cNvPr id="118" name="7 Metin kutusu"/>
          <p:cNvSpPr/>
          <p:nvPr/>
        </p:nvSpPr>
        <p:spPr>
          <a:xfrm>
            <a:off x="1071720" y="2428920"/>
            <a:ext cx="753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 dil ailesinin engelleri şu noktalarda toplan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Türk dilinin ortak terim adının ol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Türk lehçe ve şivelerinin farklı bir dil gibi gösterilme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Konuşanların birbirlerini anla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Alfabelerinin farklı olmas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F602-5B81-4D8E-8680-C98309A100A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85DF-1054-4B53-B5BA-9856C0740DA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7160" y="785880"/>
            <a:ext cx="7786800" cy="5643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Lehçe : </a:t>
            </a:r>
            <a:r>
              <a:rPr b="0" lang="tr-TR" sz="2400" spc="-1" strike="noStrike">
                <a:solidFill>
                  <a:srgbClr val="000000"/>
                </a:solidFill>
                <a:latin typeface="Times New Roman"/>
                <a:ea typeface="Times New Roman"/>
              </a:rPr>
              <a:t>Bir ana dilin, bilinen tarihinden önce, eski devirlerde kendisinden ayrılan ve ana dille çok büyük ayrılıklar gösteren en büyük koludur. Bu farklılıklar hem yazıda hem de konuşmada görül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nin, Yakut lehçesi ve Çuvaş lehçesi olmak üzere iki lehçesi bulunur. Bu lehçeler arası anlaşılabilirlik oranı son derece düşükt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Şive : </a:t>
            </a:r>
            <a:r>
              <a:rPr b="0" lang="tr-TR" sz="2400" spc="-1" strike="noStrike">
                <a:solidFill>
                  <a:srgbClr val="000000"/>
                </a:solidFill>
                <a:latin typeface="Times New Roman"/>
                <a:ea typeface="Times New Roman"/>
              </a:rPr>
              <a:t>Aynı dilin birbirinden farklı coğrafi bölgelerdeki ses (fonetik) ve şekil (morfoloji) ayrılıklarının olmasıdır. Şiveler arası farklılıklar hem yazıda hem de konuşmada görülür. (Anadolu şivesi, Türkmen şivesi, Özbek şivesi, Kırgız şivesi)</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zeri şivesine örnekler:  Men- Ben, veten- vatan, deyirem- diyor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73C6-F5C9-4254-AEE7-D86ABC7AF3B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857160" y="785880"/>
            <a:ext cx="7786800" cy="4572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Ağız : </a:t>
            </a:r>
            <a:r>
              <a:rPr b="0" lang="tr-TR" sz="2400" spc="-1" strike="noStrike">
                <a:solidFill>
                  <a:srgbClr val="000000"/>
                </a:solidFill>
                <a:latin typeface="Times New Roman"/>
                <a:ea typeface="Times New Roman"/>
              </a:rPr>
              <a:t>Ağız bir dilin söyleyişte görülen ses (fonetik) ayrılıklarıdır. (Trakya ağzı, Erzurum ağzı, Karadeniz ağzı)</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 denilince Anadolu’da çeşitli bölgelerde konuşulan şekilleri anlaşılır. Ağızlardaki söyleyiş farklılıkları yazı diline yansıt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lar dil içinde aynı coğrafi bölgelerde görülü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rneğin, Erzurum ağzında beş- bez, Ezreil- Azrail, yoh- yok, celeysun- geliyorsun.</a:t>
            </a:r>
            <a:endParaRPr b="0" lang="en-US" sz="2400" spc="-1" strike="noStrike">
              <a:solidFill>
                <a:srgbClr val="000000"/>
              </a:solidFill>
              <a:latin typeface="Calibri"/>
            </a:endParaRPr>
          </a:p>
        </p:txBody>
      </p:sp>
      <p:sp>
        <p:nvSpPr>
          <p:cNvPr id="4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B480F-F589-4FF0-A2ED-9CB131784AF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etin kutusu"/>
          <p:cNvSpPr/>
          <p:nvPr/>
        </p:nvSpPr>
        <p:spPr>
          <a:xfrm>
            <a:off x="857160" y="714240"/>
            <a:ext cx="79264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ehçe ve Şivelerin Sınıflandırılmas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konudaki ilk örnekler Kaşgarlı Mahmud’un Divân ü Lügati't-Türk’ünde görülü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lk defa Türk şivelerinin sınıflandırılmasında </a:t>
            </a:r>
            <a:r>
              <a:rPr b="1" lang="tr-TR" sz="2400" spc="-1" strike="noStrike">
                <a:solidFill>
                  <a:srgbClr val="000000"/>
                </a:solidFill>
                <a:latin typeface="Times New Roman"/>
                <a:ea typeface="Times New Roman"/>
              </a:rPr>
              <a:t>Türkçenin ses özelliklerini </a:t>
            </a:r>
            <a:r>
              <a:rPr b="0" lang="tr-TR" sz="2400" spc="-1" strike="noStrike">
                <a:solidFill>
                  <a:srgbClr val="000000"/>
                </a:solidFill>
                <a:latin typeface="Times New Roman"/>
                <a:ea typeface="Times New Roman"/>
              </a:rPr>
              <a:t>göz önüne alarak bir deneme yapan (1883), Alman asıllı Rus Türkolog Wilhelm Radloff olmuştu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 ilk önemli sınıflandırma denemesini Prof. Dr. Reşit Rahmeti Arat </a:t>
            </a:r>
            <a:r>
              <a:rPr b="1" lang="tr-TR" sz="2400" spc="-1" strike="noStrike">
                <a:solidFill>
                  <a:srgbClr val="000000"/>
                </a:solidFill>
                <a:latin typeface="Times New Roman"/>
                <a:ea typeface="Times New Roman"/>
              </a:rPr>
              <a:t>Türk Şivelerinin Tasnifi</a:t>
            </a:r>
            <a:r>
              <a:rPr b="1" i="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lı makalesi ile yapmıştır. Arat, bu tasnif denemesinde bir Türk dilleri topluluğu değil; tek bir Türk dili düşünü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DC275-1605-4E80-9151-9BDE195F06C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5 Metin kutusu"/>
          <p:cNvSpPr/>
          <p:nvPr/>
        </p:nvSpPr>
        <p:spPr>
          <a:xfrm>
            <a:off x="857160" y="714240"/>
            <a:ext cx="79264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Günümüzdeki Türk Lehçe ve Şiveler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günümüzde 18 milyon kilometre karelik geniş bir sahada yaşayan Türkler tarafından konuşulur. Bu geniş coğrafyada yaklaşık 250 milyon Türk, Türkçe konuşup yazmakt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bugün dünyada en çok konuşulan 5. dil durumund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n kuzeye ve doğuya doğru gidildiğinde dilimizin farklı lehçe ve şiveleriyle karşılaşırız.</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yle anlaşabilmeleri bölgelerin birbirlerine yakınlık ve uzaklık derecelerine göre değişmektedi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nden farklılık göstermesinde değişik bölgelerde yaşayan Türklerin komşuları ile siyasi, ekonomik ve kültürel etkileşimleri de rol oynamıştır.</a:t>
            </a:r>
            <a:endParaRPr b="0" lang="en-US" sz="2400" spc="-1" strike="noStrike">
              <a:solidFill>
                <a:srgbClr val="000000"/>
              </a:solidFill>
              <a:latin typeface="Arial"/>
            </a:endParaRPr>
          </a:p>
        </p:txBody>
      </p:sp>
      <p:sp>
        <p:nvSpPr>
          <p:cNvPr id="5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8187-003B-461D-BF6D-CB75B27D386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Resim" descr=""/>
          <p:cNvPicPr/>
          <p:nvPr/>
        </p:nvPicPr>
        <p:blipFill>
          <a:blip r:embed="rId1"/>
          <a:stretch/>
        </p:blipFill>
        <p:spPr>
          <a:xfrm>
            <a:off x="1071720" y="1500120"/>
            <a:ext cx="7603920" cy="5087880"/>
          </a:xfrm>
          <a:prstGeom prst="rect">
            <a:avLst/>
          </a:prstGeom>
          <a:ln w="50760">
            <a:solidFill>
              <a:srgbClr val="000000"/>
            </a:solidFill>
            <a:miter/>
          </a:ln>
        </p:spPr>
      </p:pic>
      <p:sp>
        <p:nvSpPr>
          <p:cNvPr id="55" name="5 Dikdörtgen"/>
          <p:cNvSpPr/>
          <p:nvPr/>
        </p:nvSpPr>
        <p:spPr>
          <a:xfrm>
            <a:off x="1000080" y="8571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p:txBody>
      </p:sp>
      <p:sp>
        <p:nvSpPr>
          <p:cNvPr id="5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7A5BC-814B-48E8-B86B-732E352ABF5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4 Metin kutusu"/>
          <p:cNvSpPr/>
          <p:nvPr/>
        </p:nvSpPr>
        <p:spPr>
          <a:xfrm>
            <a:off x="928800" y="714240"/>
            <a:ext cx="7929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uzey, Doğu, Batı/Güneybatı şeklindeki adlandırma Hazar denizine göredi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58" name="5 Metin kutusu"/>
          <p:cNvSpPr/>
          <p:nvPr/>
        </p:nvSpPr>
        <p:spPr>
          <a:xfrm>
            <a:off x="857160" y="3429000"/>
            <a:ext cx="270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Sibiry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akutlar</a:t>
            </a:r>
            <a:r>
              <a:rPr b="0" lang="tr-TR" sz="2400" spc="-1" strike="noStrike">
                <a:solidFill>
                  <a:srgbClr val="000000"/>
                </a:solidFill>
                <a:latin typeface="Times New Roman"/>
                <a:ea typeface="Times New Roman"/>
              </a:rPr>
              <a:t>-Sah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gas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uv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tiş ve Tobo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bakan Türkleri</a:t>
            </a:r>
            <a:endParaRPr b="0" lang="en-US" sz="2400" spc="-1" strike="noStrike">
              <a:solidFill>
                <a:srgbClr val="000000"/>
              </a:solidFill>
              <a:latin typeface="Arial"/>
            </a:endParaRPr>
          </a:p>
        </p:txBody>
      </p:sp>
      <p:sp>
        <p:nvSpPr>
          <p:cNvPr id="59" name="6 Metin kutusu"/>
          <p:cNvSpPr/>
          <p:nvPr/>
        </p:nvSpPr>
        <p:spPr>
          <a:xfrm>
            <a:off x="3714840" y="3429000"/>
            <a:ext cx="20588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Alt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tay Kiji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ngi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ü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andılar</a:t>
            </a:r>
            <a:endParaRPr b="0" lang="en-US" sz="2400" spc="-1" strike="noStrike">
              <a:solidFill>
                <a:srgbClr val="000000"/>
              </a:solidFill>
              <a:latin typeface="Arial"/>
            </a:endParaRPr>
          </a:p>
        </p:txBody>
      </p:sp>
      <p:sp>
        <p:nvSpPr>
          <p:cNvPr id="60" name="7 Metin kutusu"/>
          <p:cNvSpPr/>
          <p:nvPr/>
        </p:nvSpPr>
        <p:spPr>
          <a:xfrm>
            <a:off x="5857920" y="3357720"/>
            <a:ext cx="3000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İdil-Ura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uvaş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ve Batı Sibirya Tatarları</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strahan Türkleri</a:t>
            </a:r>
            <a:endParaRPr b="0" lang="en-US" sz="2400" spc="-1" strike="noStrike">
              <a:solidFill>
                <a:srgbClr val="000000"/>
              </a:solidFill>
              <a:latin typeface="Arial"/>
            </a:endParaRPr>
          </a:p>
        </p:txBody>
      </p:sp>
      <p:sp>
        <p:nvSpPr>
          <p:cNvPr id="61" name="9 Düz Bağlayıcı"/>
          <p:cNvSpPr/>
          <p:nvPr/>
        </p:nvSpPr>
        <p:spPr>
          <a:xfrm>
            <a:off x="3714840" y="3571920"/>
            <a:ext cx="0" cy="223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15 Düz Bağlayıcı"/>
          <p:cNvSpPr/>
          <p:nvPr/>
        </p:nvSpPr>
        <p:spPr>
          <a:xfrm>
            <a:off x="5643720" y="3500280"/>
            <a:ext cx="0" cy="2232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B91B-0756-4C6F-BD7C-63B0AD8CD48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Metin kutusu"/>
          <p:cNvSpPr/>
          <p:nvPr/>
        </p:nvSpPr>
        <p:spPr>
          <a:xfrm>
            <a:off x="971640" y="78588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65" name="5 Metin kutusu"/>
          <p:cNvSpPr/>
          <p:nvPr/>
        </p:nvSpPr>
        <p:spPr>
          <a:xfrm>
            <a:off x="1187280" y="2000160"/>
            <a:ext cx="2443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 Kafka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og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ndur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çay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uk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alkarlar</a:t>
            </a:r>
            <a:endParaRPr b="0" lang="en-US" sz="2400" spc="-1" strike="noStrike">
              <a:solidFill>
                <a:srgbClr val="000000"/>
              </a:solidFill>
              <a:latin typeface="Arial"/>
            </a:endParaRPr>
          </a:p>
        </p:txBody>
      </p:sp>
      <p:sp>
        <p:nvSpPr>
          <p:cNvPr id="66" name="6 Metin kutusu"/>
          <p:cNvSpPr/>
          <p:nvPr/>
        </p:nvSpPr>
        <p:spPr>
          <a:xfrm>
            <a:off x="3635280" y="20001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Kırım Türkl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7 Metin kutusu"/>
          <p:cNvSpPr/>
          <p:nvPr/>
        </p:nvSpPr>
        <p:spPr>
          <a:xfrm>
            <a:off x="6012000" y="2000160"/>
            <a:ext cx="23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 Karay Türkleri</a:t>
            </a:r>
            <a:endParaRPr b="0" lang="en-US" sz="2400" spc="-1" strike="noStrike">
              <a:solidFill>
                <a:srgbClr val="000000"/>
              </a:solidFill>
              <a:latin typeface="Arial"/>
            </a:endParaRPr>
          </a:p>
        </p:txBody>
      </p:sp>
      <p:sp>
        <p:nvSpPr>
          <p:cNvPr id="68" name="9 Düz Bağlayıcı"/>
          <p:cNvSpPr/>
          <p:nvPr/>
        </p:nvSpPr>
        <p:spPr>
          <a:xfrm>
            <a:off x="3643200" y="2071800"/>
            <a:ext cx="0" cy="21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13 Düz Bağlayıcı"/>
          <p:cNvSpPr/>
          <p:nvPr/>
        </p:nvSpPr>
        <p:spPr>
          <a:xfrm>
            <a:off x="5857920" y="2143080"/>
            <a:ext cx="0" cy="21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0BFB-00D8-43E6-BC73-AAA1E0731A6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1:11Z</dcterms:modified>
  <cp:revision>168</cp:revision>
  <dc:subject/>
  <dc:title>Slayt 1</dc:title>
</cp:coreProperties>
</file>